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4E1-30F6-4CDE-A42F-ADD01E85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85B-555D-470C-B6B9-6435AEF4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2E3FB-1817-4BC3-95DA-DF1B72F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398A4-E288-425A-BAF5-768D16D3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C4A15-9C04-4E0E-822E-1A5AE0F0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DFBF3-AEF1-4215-9FC4-EB2ABE54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BA168-9F3C-47D3-B222-35AF51DB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6CA0D-3B3D-4EE4-BC6E-572AB47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E45E0-7CB9-44AE-B758-2936F61A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CA2E2-3C8F-456C-9CBE-996CB015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ACA04-5A3C-4529-97FF-DB64C84C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115EC-455F-4C12-8D6B-18F4C068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086-309C-4DC5-925B-9EF70F65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6DC61-E502-4FFE-8110-E1456D69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9C280-95B4-4DF2-BFEF-B086EC5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83389-C083-4BE1-AE80-5E3203F7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78519-523E-4E90-9A3E-DB94FCC5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19893-7861-475C-886B-9E1EBA37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A5E3D-6AB9-483D-9B84-261C65D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EE74C-C01E-45FA-B3CA-9AF1F005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32CC7-3E7D-4E0B-87AF-F8D05F8F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7C941-C323-47E0-870B-783856CF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C8919-072C-42BA-96A3-50AB13EC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087-7214-423B-AF13-5ACF910B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F540B-82CD-46F0-AFBF-EF618F31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1005A-4E6E-4404-A1B9-948B6E14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42AAB-ECE8-4BD3-9C02-5E8C7840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DAA18-1162-4EDD-8DAD-DA22728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E5496-22BA-46C1-98FE-9F43DD18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6C031-561F-4724-9B50-AF01B53C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645BD-63B4-4D71-AEBE-B0A37227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8E49C-5B6E-4F1B-B04A-1806482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F12E2-9281-41A8-BEFC-E507548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768FE-54AB-4374-B8BD-3F35392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742E-76A8-4D7C-8A80-B66D97B4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3003A-C4A6-400E-8BD7-6EAB728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F673C-9007-4038-B3A6-5D875C14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59C4D-A959-4871-A38B-E06F43E7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A694C-C8A8-485D-A974-DA4B893D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4862A-22BD-4267-8597-E1B5F2B0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8F43A-9A2E-4F94-B579-C41178F3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AFA65-F39A-4E9F-A74D-4EE5B674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F681B-27A9-4525-848A-2C42084F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D7EAC-1C80-497D-AA48-F7FAFA7C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78DEC-A4D1-47BC-8BB6-F059A757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DC3E-0948-4304-A107-DF01B531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6391F-1EF9-4E85-8828-F32EB4F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3FB65-F029-4858-B103-5C4891E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A213C-89A3-410D-8ABD-672E24A6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AC9B9-5FB8-4F4C-AA4C-CCBD0D87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5499B-C95B-442E-8225-7747ABAE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608AA-D953-46A3-934B-5D92CAAB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F8982-EFA1-4563-93E4-EF40B840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84ED5-E482-405F-8E71-10171523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00F94-5102-4DE8-87FE-9E4C6EA0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902E0-679D-4FFB-BE48-89BEC60C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7B63-6435-4F92-83EE-5A6F9CEF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FD696-E6DF-431C-84F3-82BE286B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B622D-5418-43AC-9240-B425D7E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B1EAF-5244-4C0A-B7B7-A4BDD648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C5358-337E-4989-BA30-076E2130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86913-BB63-47E3-B6A4-BE2F5A60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917F2-E2A1-4BCD-BA90-4DDC7855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CCFD6-BA87-41FE-A793-E86E72D2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51437-EDAB-4933-8539-F6F32854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3A7D7-A07B-4862-95A9-01F88290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63707-3845-4DC5-AB1A-AB193526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E6C5-5AE9-4BB4-955F-2D3BACBA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6139B-888F-4756-BA73-FD3ABF97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A2BAC-B529-4FEB-9076-C8A089D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08ACE-AF92-4542-9F8F-4CA909A1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A9EEB-4465-4024-8EB7-31305D8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4E370-0763-44B4-972D-DD78947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E1BAD-EE50-40A0-8429-BEF200FE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F44A3-D2BD-4A71-8529-E5468F7C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531AC-8FDB-44B1-A6F1-D0035F86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D8566-BEA3-4A0D-8539-2CC8E819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471AA-E026-4868-B1C3-EF31F0D0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EEAC-6A19-4A19-A8E9-30E7787C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6A1C3-2E96-466F-A10C-2145D850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1E194-BC90-44DA-802B-E88656CE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4B2B1-DB82-45A1-9EDE-C99891B0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CB887-D798-4368-A2D0-E99D3407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6C16D-7871-4012-B90E-1DEEB3DC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68057-7B51-454C-90E9-48B28065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16E89-2226-4B63-BD0D-5641B2A3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A05917-114C-4F69-831D-77FD7FB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42EEED-D82A-42D8-AB0D-FB80E66D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B4003-75B6-4F86-B27C-2D4BA0B5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2E11-2A52-45D4-9B6A-947C05ED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7716A-F13A-4909-9EAB-1662CA1D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3295-B7D1-4E79-9785-998DB380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F63-E5EA-45C2-8988-0A2CA1E3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FF4-110D-4A1C-86DB-EC0266C9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3DA0-FAAF-44DD-A9EF-7803F5E8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FA28-1F19-4C2E-B109-38E785D9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CF33-832E-4843-9BBD-8B054987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3F6F-9EB2-4C97-9AA4-CD946852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1F093-D548-4E11-96FF-B660E3A9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61F3-B478-4DA1-AFAD-7816F432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FE3B-BA2F-4F84-8AD0-E722DB68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D848-1893-408E-9B01-916EE9F5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2222-F665-4558-B484-57641E2E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740-B4CE-4184-803E-0E037FEE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F399-852F-4920-9631-93F3B804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A3CC-5CF6-44A3-85EC-A4408FA5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C05C-51A5-4A11-81DC-0303F45F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6855-E7B8-4958-B9F5-5D1E5D9F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D001-19E5-4E3C-90DD-2B82F0C0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D0BC-C1CF-474F-A56F-6F4760B7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D18B-D3CC-4B38-8C22-332E6945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528B-D657-495E-8B1E-8EDF3C11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AF20-AEED-4F1F-9074-56C2F55C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FCDC-70FA-4FC6-83E5-C4C6E99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E35-6AC8-43C6-9627-472426F9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3B98-4A37-4A9B-953B-47D6CB62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25CB-571D-451F-AED3-7B2E008C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02E4-C178-452C-BCF6-CD6E2C69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15597-7314-4C60-8424-430541E5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675E2-55D7-414E-80BA-BEDEA21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E70C8-BAD5-4BF4-AE62-FDF470AC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E380-1BA2-450C-A70B-E7923B1A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2D280-607B-4F21-8393-58D1D85F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329D-5285-48A4-887E-B3942029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8FB42-DBEE-4A9E-A4AA-2FA37785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AB0-BF17-47BB-83E0-6A51FDC6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772A9-3A28-4771-8C65-DA6366AB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9FE23-2C16-4211-ADBC-AC8AC4F5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49338-EE8F-4E47-81F1-B1E37590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C6FA-536E-4839-8FD9-A2B5E444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53072-B186-46CD-AA7F-C1A20323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949F1-ABB2-4754-B986-FEE7FDB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D194-9BD7-42F1-8994-2FCB8169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65369-75D7-419E-AD9A-477A3C7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D0C6-3676-40D4-8CCD-7126581A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B148D-E677-4744-86F3-80DF31DC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C10-9602-4A8A-B90D-55FCD49F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8FEC5-8EFE-48F9-9147-C8D3C979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A945F-52E7-421A-BD5F-E38BCFA0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FD96-973B-4AAE-9FF7-5CE37E95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7B329-027E-48AD-BD57-C500FCA2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25F92-4240-4BFF-9027-0948C3E1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1D415-9E7A-4C1A-8F45-1B2F13EB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390AD-E47A-468B-9D49-44217EDA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955D9-5058-4BC4-BE30-0E81335B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A54EA-AF7E-44BE-9319-0F607936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5FC28-29B5-4E26-937F-BF234CAD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BF1-0455-4B40-9F9E-DB2155B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9759C-EF09-49A4-9171-79F72F63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7FECD-6989-4900-AF1E-0F4BBEA5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51115-7E31-4FBB-B314-2373EC7E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B73D8-A23D-4A47-A04D-F34A88E8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BE7CA-FB59-49F7-869C-637D5FD4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4EAF0-60C1-41A5-B69E-02960DBA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CA1EB-46E2-4D8A-903D-1B1C3880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40EDC-BD34-4589-A1CC-F0F2EE52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035D4-0488-4ECC-A30F-9DC307E6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50D01-9C08-48AD-8CD0-08AA932C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6BD-FC5A-40B6-B6D4-8925FF5B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01AA7-ACF2-4066-94D4-486D5A6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F71A-032D-4D0E-82F7-48DC22F0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ABFC6-70A7-447B-8217-0A66E5A6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5D646-ADA0-40E5-AB0F-648CB4CE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E209B-F375-4AC6-9371-01A4C24F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0C615-C79E-42D6-9724-87A9DB37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D5E15-41F9-4784-9B5D-5F457AB3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122C-B5E0-4678-9310-44E200A1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BD2B4-98F0-4B84-8697-8D2D0A3D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D9178-4777-45D8-9CC3-8F3AE0DF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A8A-F728-46BA-85C5-33F7AB3D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9C37E-EC18-4632-AF44-CF5C3BAC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75153-BDD6-42A4-ADB9-0E43A818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F31C4-6DD8-426D-A3EE-59E7A71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B6E0E-CC2D-403F-A037-8B72CDA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3FA3A-D50D-420C-AF6F-15A9A07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F80C6-4F0C-4E77-A497-4D7204F5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4F890-E67E-433E-8E81-9EB849A7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BB3E0-077E-41E2-9F39-10FC8E36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3AF57-4B53-4B69-93B6-66A19BBF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EAB6B-C2BD-496E-AFE3-473334BC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CCD9-2DED-4CBC-9A56-95BB3948C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801E-40CB-42F4-8FFC-39A4A42B8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3CE8-9983-421A-80E5-3F216CC76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FD2-E636-4CC1-B9F2-9F6C649C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8B07-F5F8-476D-8B0A-FB3FE7A60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A769-4DC6-4A56-9253-06D129946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055C-B6C5-4A8B-8A5D-494F686C7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42C7-3814-4F8F-AFEF-06DDB25CA5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1AF8-40CB-443F-B2AF-08BCE5506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DA37-5E97-4242-B679-2A87DE69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028F-DE15-4347-8386-19F23CC72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B3DB-CC01-40EB-8743-FEC56F61C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D20A-2193-4D22-9B82-D89E4BD36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1919-227F-4A8D-9DD1-4A7EC2142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191B-E022-4259-882A-9C5293332E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uts.cc.utexas.edu/~sparta/index.html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upload.wikimedia.org/wikipedia/commons/c/c0/Greek_vase_with_muse_and_kithara_on_mount_helikon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0" y="0"/>
            <a:ext cx="4800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3-2-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Homework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0" y="1066680"/>
            <a:ext cx="5791320" cy="3003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: 3-2-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Which city-state was known for its strict militar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city-state was known for its superior education in drama, speech, literature, and philosoph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If you have time…read a Greek myth at Myth Web.com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4876920" y="1371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par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4419720" y="2057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th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21" descr="sparta"/>
          <p:cNvPicPr/>
          <p:nvPr/>
        </p:nvPicPr>
        <p:blipFill>
          <a:blip r:embed="rId1"/>
          <a:stretch/>
        </p:blipFill>
        <p:spPr>
          <a:xfrm>
            <a:off x="5791320" y="0"/>
            <a:ext cx="1257120" cy="5716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3" descr="slice_on_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533520"/>
            <a:ext cx="1257120" cy="8474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5" descr="shilouettedathena.gif (11747 bytes)"/>
          <p:cNvPicPr/>
          <p:nvPr/>
        </p:nvPicPr>
        <p:blipFill>
          <a:blip r:embed="rId4"/>
          <a:stretch/>
        </p:blipFill>
        <p:spPr>
          <a:xfrm>
            <a:off x="7543800" y="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7" descr="10908129"/>
          <p:cNvPicPr/>
          <p:nvPr/>
        </p:nvPicPr>
        <p:blipFill>
          <a:blip r:embed="rId5"/>
          <a:stretch/>
        </p:blipFill>
        <p:spPr>
          <a:xfrm>
            <a:off x="5772240" y="1857240"/>
            <a:ext cx="3371760" cy="50007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1" descr="photo&#10;      of spartan king"/>
          <p:cNvPicPr/>
          <p:nvPr/>
        </p:nvPicPr>
        <p:blipFill>
          <a:blip r:embed="rId6"/>
          <a:srcRect l="0" t="0" r="8340" b="0"/>
          <a:stretch/>
        </p:blipFill>
        <p:spPr>
          <a:xfrm>
            <a:off x="2438280" y="4038480"/>
            <a:ext cx="3353040" cy="28195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Image:Mousai Helikon Staatliche Antikensammlungen Schoen80 n1.jpg"/>
          <p:cNvPicPr/>
          <p:nvPr/>
        </p:nvPicPr>
        <p:blipFill>
          <a:blip r:embed="rId7"/>
          <a:srcRect l="17476" t="0" r="10678" b="10171"/>
          <a:stretch/>
        </p:blipFill>
        <p:spPr>
          <a:xfrm>
            <a:off x="0" y="3657600"/>
            <a:ext cx="2438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3"/>
          <p:cNvSpPr/>
          <p:nvPr/>
        </p:nvSpPr>
        <p:spPr>
          <a:xfrm>
            <a:off x="1981080" y="51055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y: Tim Rams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198108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hens &amp;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athena_poseidon"/>
          <p:cNvPicPr/>
          <p:nvPr/>
        </p:nvPicPr>
        <p:blipFill>
          <a:blip r:embed="rId1"/>
          <a:stretch/>
        </p:blipFill>
        <p:spPr>
          <a:xfrm>
            <a:off x="609480" y="1676520"/>
            <a:ext cx="4381560" cy="2895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artemis"/>
          <p:cNvPicPr/>
          <p:nvPr/>
        </p:nvPicPr>
        <p:blipFill>
          <a:blip r:embed="rId2"/>
          <a:stretch/>
        </p:blipFill>
        <p:spPr>
          <a:xfrm>
            <a:off x="5410080" y="1447920"/>
            <a:ext cx="2743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1143000" y="990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4" descr="athensmap"/>
          <p:cNvPicPr/>
          <p:nvPr/>
        </p:nvPicPr>
        <p:blipFill>
          <a:blip r:embed="rId1"/>
          <a:srcRect l="2943" t="0" r="0" b="6973"/>
          <a:stretch/>
        </p:blipFill>
        <p:spPr>
          <a:xfrm>
            <a:off x="2209680" y="3581280"/>
            <a:ext cx="5029200" cy="30481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"/>
          <p:cNvSpPr/>
          <p:nvPr/>
        </p:nvSpPr>
        <p:spPr>
          <a:xfrm>
            <a:off x="457200" y="457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Athens and Spar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A Contrast in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304920" y="20574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Although these city states were only 300 miles apart, their cultures were vastly different in many ways. Three of those are the treatment of children, women in society, and cus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7" descr="Spartan soldier"/>
          <p:cNvPicPr/>
          <p:nvPr/>
        </p:nvPicPr>
        <p:blipFill>
          <a:blip r:embed="rId2"/>
          <a:stretch/>
        </p:blipFill>
        <p:spPr>
          <a:xfrm>
            <a:off x="7310520" y="12240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athenastatue"/>
          <p:cNvPicPr/>
          <p:nvPr/>
        </p:nvPicPr>
        <p:blipFill>
          <a:blip r:embed="rId3"/>
          <a:stretch/>
        </p:blipFill>
        <p:spPr>
          <a:xfrm>
            <a:off x="434880" y="139680"/>
            <a:ext cx="152424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3"/>
          <p:cNvSpPr/>
          <p:nvPr/>
        </p:nvSpPr>
        <p:spPr>
          <a:xfrm>
            <a:off x="228600" y="228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228600" y="380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 Box 10"/>
          <p:cNvSpPr/>
          <p:nvPr/>
        </p:nvSpPr>
        <p:spPr>
          <a:xfrm>
            <a:off x="4572000" y="1143000"/>
            <a:ext cx="42670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Boys were taught by their mothers until age seven and then sent to a day schoo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Other than reading, writing, and math, they were educated in the arts, government, and dra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ey also learned how to play a lyr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At eighteen, they entered military school for two additional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ey were taught how to be a good citizen of Athens and have good mor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99072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ld Upbringing in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3" descr="plato"/>
          <p:cNvPicPr/>
          <p:nvPr/>
        </p:nvPicPr>
        <p:blipFill>
          <a:blip r:embed="rId2"/>
          <a:stretch/>
        </p:blipFill>
        <p:spPr>
          <a:xfrm>
            <a:off x="304920" y="990720"/>
            <a:ext cx="1987560" cy="2209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socrates"/>
          <p:cNvPicPr/>
          <p:nvPr/>
        </p:nvPicPr>
        <p:blipFill>
          <a:blip r:embed="rId3"/>
          <a:stretch/>
        </p:blipFill>
        <p:spPr>
          <a:xfrm>
            <a:off x="2438280" y="990720"/>
            <a:ext cx="1746360" cy="21333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5"/>
          <p:cNvSpPr/>
          <p:nvPr/>
        </p:nvSpPr>
        <p:spPr>
          <a:xfrm>
            <a:off x="152280" y="3352680"/>
            <a:ext cx="190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Eras Bold ITC"/>
              </a:rPr>
              <a:t>Boys in Athens had to learn about Plato (above) and Socrates (righ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17" descr="Image:Greek vase with muse and kithara on mount helikon.jpg">
            <a:hlinkClick r:id="rId4"/>
          </p:cNvPr>
          <p:cNvPicPr/>
          <p:nvPr/>
        </p:nvPicPr>
        <p:blipFill>
          <a:blip r:embed="rId5"/>
          <a:srcRect l="22902" t="4169" r="24746" b="6251"/>
          <a:stretch/>
        </p:blipFill>
        <p:spPr>
          <a:xfrm>
            <a:off x="2666880" y="3276720"/>
            <a:ext cx="1447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5"/>
          <p:cNvSpPr/>
          <p:nvPr/>
        </p:nvSpPr>
        <p:spPr>
          <a:xfrm>
            <a:off x="2133720" y="-507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ld Upbringing in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304920" y="365040"/>
            <a:ext cx="426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ce a son was seven years old, he was taken from his mother to go to military schoo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military school, they trained to be a disciplined warri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ool courses were very painful and difficult. They were taught the very basics of reading and writing, but warfare was the only thing that mattered to the Spart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oys weren’t fed well and were taught to steal –but were punished if they were cau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artans thought that any kind of luxury made a person spoiled, so they did not believe in entertainment or comfort.  Their food was bland and their clothes were pla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oys had to live in barracks away from their family. They lived apart until the age of six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7" descr="spartaweapons"/>
          <p:cNvPicPr/>
          <p:nvPr/>
        </p:nvPicPr>
        <p:blipFill>
          <a:blip r:embed="rId2"/>
          <a:srcRect l="6668" t="0" r="0" b="0"/>
          <a:stretch/>
        </p:blipFill>
        <p:spPr>
          <a:xfrm>
            <a:off x="4724280" y="182880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ras Bold ITC"/>
              </a:rPr>
              <a:t>Women in Athens and Spar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5" descr="women"/>
          <p:cNvPicPr/>
          <p:nvPr/>
        </p:nvPicPr>
        <p:blipFill>
          <a:blip r:embed="rId2"/>
          <a:stretch/>
        </p:blipFill>
        <p:spPr>
          <a:xfrm>
            <a:off x="3429000" y="2133720"/>
            <a:ext cx="2324160" cy="319068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6"/>
          <p:cNvSpPr/>
          <p:nvPr/>
        </p:nvSpPr>
        <p:spPr>
          <a:xfrm>
            <a:off x="380880" y="2057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Women were only a small step above sla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7"/>
          <p:cNvSpPr/>
          <p:nvPr/>
        </p:nvSpPr>
        <p:spPr>
          <a:xfrm>
            <a:off x="3200400" y="9907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s were taught wrestling, gymnastics and combat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6477120" y="17524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he passed the test for strength, she was allowed to be a citiz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533520" y="32004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were not citizens and were under their husband’s author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304920" y="5638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 &amp; 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s were arranged by the father of the brid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11"/>
          <p:cNvSpPr/>
          <p:nvPr/>
        </p:nvSpPr>
        <p:spPr>
          <a:xfrm>
            <a:off x="6019920" y="38862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ir husbands didn’t live at home, the women enjoyed a great deal of freed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12"/>
          <p:cNvSpPr/>
          <p:nvPr/>
        </p:nvSpPr>
        <p:spPr>
          <a:xfrm>
            <a:off x="152280" y="838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ens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ould not own prop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13"/>
          <p:cNvSpPr/>
          <p:nvPr/>
        </p:nvSpPr>
        <p:spPr>
          <a:xfrm>
            <a:off x="5410080" y="56707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rta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could not wear jewelry, make-up, or colored clo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5"/>
          <p:cNvSpPr/>
          <p:nvPr/>
        </p:nvSpPr>
        <p:spPr>
          <a:xfrm>
            <a:off x="2438280" y="304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ras Bold ITC"/>
              </a:rPr>
              <a:t>Weird Cus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8380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partan babies were washed in w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1676520" y="198108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Spartan infants were not strong enough then they were thrown over a cli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533520" y="37339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artan boys marched without shoes to make them str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1523880" y="51055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n Sparta when a woman was married, her head was shaved and was made to wear men’s clothing until the ceremony was ov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5562720" y="22096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Parents in Athens considered their children “youths” until the age of thi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2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ras Bold ITC"/>
              </a:rPr>
              <a:t>Conclu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4191120" y="1295280"/>
            <a:ext cx="464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Sparta did not produce much art or philosophy or any written work, but its people were admired for keeping alive the Greek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152280" y="350532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s was famous for its literature, poetry, drama, theater, government, ( our own government is modeled after it ) and producing the world’s greatest thinkers. It is clearly the shining star of all the Greek   city-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8" descr="spartaremains"/>
          <p:cNvPicPr/>
          <p:nvPr/>
        </p:nvPicPr>
        <p:blipFill>
          <a:blip r:embed="rId2"/>
          <a:stretch/>
        </p:blipFill>
        <p:spPr>
          <a:xfrm>
            <a:off x="304920" y="914400"/>
            <a:ext cx="3733560" cy="2286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parthenon"/>
          <p:cNvPicPr/>
          <p:nvPr/>
        </p:nvPicPr>
        <p:blipFill>
          <a:blip r:embed="rId3"/>
          <a:stretch/>
        </p:blipFill>
        <p:spPr>
          <a:xfrm>
            <a:off x="4343400" y="3505320"/>
            <a:ext cx="453384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3:54:19Z</dcterms:created>
  <dc:creator>poweruser</dc:creator>
  <dc:description/>
  <dc:language>en-US</dc:language>
  <cp:lastModifiedBy>poweruser</cp:lastModifiedBy>
  <dcterms:modified xsi:type="dcterms:W3CDTF">2012-03-02T19:48:46Z</dcterms:modified>
  <cp:revision>4</cp:revision>
  <dc:subject/>
  <dc:title>Slide 1</dc:title>
</cp:coreProperties>
</file>